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6FF-AE56-47C9-8C8D-94300E45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F2F-AC52-438C-9DC9-58A37B26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227-A165-43CB-A57F-0F19CB4D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5E0-1ED2-4B85-A2DE-AD1688C5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B749-256B-4160-B4C3-12136293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C76C-9CD0-4CD9-AD68-A7BAD68E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CA2B-2F1E-4BA5-80E3-CE36E843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5804-CE7E-4CFC-9DC7-1A05CF4D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1C81-0604-4065-AC61-9C14E2B9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93A1-5360-42FE-9E44-46D97596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8994-1574-4761-B66A-AF30E703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588-9952-49DC-85E6-089C76D1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9A71-8EDF-464E-9B45-C6E422E1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A0EB-5D36-4C5C-B74A-F9AD488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0562-36F3-45F4-98B8-60813CB1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3A82-0FC4-46A8-A104-7AE8A4D8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393C-4CD5-4846-9459-A01E2476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43F-FBA7-4C05-89E3-A4D1F348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9E6-ABD0-4CF3-97FE-F0C6E2B5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2BB-BC9A-4703-BC24-F9C32195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52A-2B72-4563-A05E-0815684E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79E-7221-47DA-9137-123EF191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37A-ACFF-4818-B74F-A02CE2B3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BB7-3340-48EF-9BCC-B7A5E493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F64C-713F-405B-B7EF-68991756A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FE49-7B3E-43A4-9B01-7744E6958D57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83AD-B769-4D25-87D5-CED288AF2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仿宋_GB2312"/>
                <a:ea typeface="仿宋_GB2312"/>
              </a:rPr>
              <a:t>新进员工职业化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85920" y="3786120"/>
            <a:ext cx="64008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ush Script MT"/>
                <a:ea typeface="仿宋_GB2312"/>
              </a:rPr>
              <a:t>陈致谚</a:t>
            </a:r>
            <a:r>
              <a:rPr b="0" lang="en-US" sz="3200" spc="-1" strike="noStrike">
                <a:solidFill>
                  <a:srgbClr val="000000"/>
                </a:solidFill>
                <a:latin typeface="Brush Script MT"/>
                <a:ea typeface="仿宋_GB2312"/>
              </a:rPr>
              <a:t>Paul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2"/>
          <p:cNvSpPr/>
          <p:nvPr/>
        </p:nvSpPr>
        <p:spPr>
          <a:xfrm>
            <a:off x="928800" y="21420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那些人最让企业伤脑筋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1000080" y="857160"/>
            <a:ext cx="6929640" cy="72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稳定度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抗压性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缺乏服务热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口气不佳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服务意愿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得罪客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请假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随心情决定上班与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迟到早退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配合度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主动回报工作进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自我中心主义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只要我喜欢没什么不可以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缺乏被指正的雅量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动不动就哭或辞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遵守职场伦理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越级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1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搞小圈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传八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挂一漏万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忘性比记性好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文件错别字一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没有责任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784880" y="500040"/>
            <a:ext cx="76662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什么是人才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999720"/>
            <a:ext cx="8343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一个大学的就业论坛上，有人提出了这的一个问题：“在各行各业呼唤人才的当今社会，什么样的人，才称得上是人才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位博士导师说：怎样才是人才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很简单，“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能做好一件事的人就是人才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比如我要一位清洁工，她每天能把地打扫干净，能把卫生搞好，那么她就是清洁这一块的人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641880" y="713880"/>
            <a:ext cx="7666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才的标准是什么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343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博导的言辞很精僻，简单的例子告诉我们人才的标准。我们从“做好”两个字细细的去分析，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作为人才，不仅是能做事，也就是具备专业技能，还要具备职业道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2"/>
          <p:cNvSpPr/>
          <p:nvPr/>
        </p:nvSpPr>
        <p:spPr>
          <a:xfrm>
            <a:off x="1071720" y="857160"/>
            <a:ext cx="528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老板心目中的优秀员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1143000" y="1643040"/>
            <a:ext cx="714384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富有使命感的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善于及时提出合理化建议的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吃苦耐劳精神的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胜任本职工作，能独当一面的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勤于思考，善用智慧解决问题的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做事能到位的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公司的利益放在第一位的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用业绩说话的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427040" y="1000080"/>
            <a:ext cx="76658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流职业理念的特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1360" y="1571400"/>
            <a:ext cx="8343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敬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良好的心态和信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做事先做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制定工作目标导向，认真负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注重潜能开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提前行动，主动承担责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终生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自己的职业忠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自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善于控制情绪，不断提高情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演练：个人能力的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WOT</a:t>
            </a:r>
            <a:r>
              <a:rPr b="1" lang="zh-TW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1680" y="1000080"/>
          <a:ext cx="8143560" cy="5157720"/>
        </p:xfrm>
        <a:graphic>
          <a:graphicData uri="http://schemas.openxmlformats.org/drawingml/2006/table">
            <a:tbl>
              <a:tblPr/>
              <a:tblGrid>
                <a:gridCol w="1837800"/>
                <a:gridCol w="1952640"/>
                <a:gridCol w="2146320"/>
                <a:gridCol w="2206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优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tr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劣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Weak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机 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Opportun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威 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Thr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个人工作能力中的强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个人工作能力中的弱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个人在工作环境中，可以掌握的机会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个人在工作环境中，所面临的威胁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498600" y="7138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二、</a:t>
            </a:r>
            <a:r>
              <a:rPr b="1" lang="zh-TW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生涯规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4308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何谓生涯规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需要生涯规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生涯规划的内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什么时候作生涯规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案例：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1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45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6F29-AB0B-4C36-8C25-C262CA62B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784880" y="0"/>
            <a:ext cx="7356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职涯发展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71840" y="53578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（建立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715000" y="535788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（維持期</a:t>
            </a:r>
            <a:r>
              <a:rPr b="1" lang="zh-TW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58000" y="414324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ff3300"/>
                </a:solidFill>
                <a:latin typeface="Times New Roman"/>
                <a:ea typeface="DFKai-SB"/>
              </a:rPr>
              <a:t>（</a:t>
            </a:r>
            <a:r>
              <a:rPr b="1" lang="zh-TW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衰退期</a:t>
            </a:r>
            <a:r>
              <a:rPr b="1" lang="zh-TW" sz="1500" spc="-1" strike="noStrike">
                <a:solidFill>
                  <a:srgbClr val="ff3300"/>
                </a:solidFill>
                <a:latin typeface="Times New Roman"/>
                <a:ea typeface="DFKai-SB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286000" y="2500200"/>
            <a:ext cx="114300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291" y="3840"/>
                </a:moveTo>
                <a:lnTo>
                  <a:pt x="23400" y="2945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0-30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尝试期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T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786200" y="3714840"/>
            <a:ext cx="157176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787" y="-12522"/>
                </a:moveTo>
                <a:lnTo>
                  <a:pt x="-1388" y="2929"/>
                </a:lnTo>
              </a:path>
              <a:path w="21600" h="21600">
                <a:moveTo>
                  <a:pt x="-1388" y="0"/>
                </a:moveTo>
                <a:lnTo>
                  <a:pt x="-1388" y="21600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1-40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稳定期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Stabi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5429160" y="1357200"/>
            <a:ext cx="1630440" cy="129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84" y="31351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1-46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年转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Mid-career tran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耶鲁大学统计资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只有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 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毕业生知道以后要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7 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不知道自己以后要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27%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，没有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10%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，有清晰但比较短期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60%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，目标模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714240" y="500040"/>
            <a:ext cx="7643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职业生涯与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为什么要设定目标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耶鲁大学追踪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知道做什么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 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毕业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拥有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7 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财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知道要做什么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7 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只拥有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 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财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569880" y="1143000"/>
            <a:ext cx="76658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今天的目标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43040" y="2000160"/>
            <a:ext cx="8344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职业理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生涯规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阳光心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沟通协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时间效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职场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Q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高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55680" y="499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成功的关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5640" y="1643040"/>
            <a:ext cx="93250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设定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建立自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努力不懈、不灰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师生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际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亲子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胆做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绘一张人生的地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566640"/>
          <a:ext cx="7604280" cy="6291360"/>
        </p:xfrm>
        <a:graphic>
          <a:graphicData uri="http://schemas.openxmlformats.org/drawingml/2006/table">
            <a:tbl>
              <a:tblPr/>
              <a:tblGrid>
                <a:gridCol w="3857760"/>
                <a:gridCol w="374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我的人生目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我的价值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我的处事态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我的兴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我的性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我最想完成的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件事，在什么时候完成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0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岁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0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岁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0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我想要做什么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我目前拥有的能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我还可以发展的潜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我要再继续加强的地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现在我想要住在哪里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退休以后我想要住在哪里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每个月要赚多少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213280" y="28548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、阳光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357120" y="1500120"/>
            <a:ext cx="850104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积极的工作态度，会带来卓越的工作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良好的顾客服务，来自员工优良的工作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建设性的工作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态度，会产生更多创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案例！（爱与奉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人风采展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7120" y="1428840"/>
            <a:ext cx="3574800" cy="4771440"/>
            <a:chOff x="357120" y="1428840"/>
            <a:chExt cx="3574800" cy="4771440"/>
          </a:xfrm>
        </p:grpSpPr>
        <p:sp>
          <p:nvSpPr>
            <p:cNvPr id="133" name="Oval 152"/>
            <p:cNvSpPr/>
            <p:nvPr/>
          </p:nvSpPr>
          <p:spPr>
            <a:xfrm rot="3124800">
              <a:off x="3717000" y="3229560"/>
              <a:ext cx="177480" cy="42840"/>
            </a:xfrm>
            <a:prstGeom prst="ellipse">
              <a:avLst/>
            </a:prstGeom>
            <a:gradFill rotWithShape="0">
              <a:gsLst>
                <a:gs pos="0">
                  <a:srgbClr val="6e99c0"/>
                </a:gs>
                <a:gs pos="50000">
                  <a:srgbClr val="161f26"/>
                </a:gs>
                <a:gs pos="100000">
                  <a:srgbClr val="6e99c0"/>
                </a:gs>
              </a:gsLst>
              <a:lin ang="76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53"/>
            <p:cNvSpPr/>
            <p:nvPr/>
          </p:nvSpPr>
          <p:spPr>
            <a:xfrm rot="13004400">
              <a:off x="2925720" y="2984040"/>
              <a:ext cx="326880" cy="2379600"/>
            </a:xfrm>
            <a:prstGeom prst="pie">
              <a:avLst/>
            </a:prstGeom>
            <a:gradFill rotWithShape="0">
              <a:gsLst>
                <a:gs pos="0">
                  <a:srgbClr val="6e99c0"/>
                </a:gs>
                <a:gs pos="50000">
                  <a:srgbClr val="506f8b"/>
                </a:gs>
                <a:gs pos="100000">
                  <a:srgbClr val="6e99c0"/>
                </a:gs>
              </a:gsLst>
              <a:lin ang="193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062000" y="4108320"/>
              <a:ext cx="2628720" cy="2091960"/>
              <a:chOff x="1062000" y="4108320"/>
              <a:chExt cx="2628720" cy="2091960"/>
            </a:xfrm>
          </p:grpSpPr>
          <p:sp>
            <p:nvSpPr>
              <p:cNvPr id="136" name="AutoShape 130"/>
              <p:cNvSpPr/>
              <p:nvPr/>
            </p:nvSpPr>
            <p:spPr>
              <a:xfrm>
                <a:off x="1062000" y="4108320"/>
                <a:ext cx="2628720" cy="20919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50000">
                    <a:srgbClr val="004961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31"/>
              <p:cNvSpPr/>
              <p:nvPr/>
            </p:nvSpPr>
            <p:spPr>
              <a:xfrm>
                <a:off x="1062000" y="4951080"/>
                <a:ext cx="2628720" cy="43848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76c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132"/>
            <p:cNvSpPr/>
            <p:nvPr/>
          </p:nvSpPr>
          <p:spPr>
            <a:xfrm>
              <a:off x="1550880" y="5511960"/>
              <a:ext cx="162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成功的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36"/>
            <p:cNvSpPr/>
            <p:nvPr/>
          </p:nvSpPr>
          <p:spPr>
            <a:xfrm flipH="1">
              <a:off x="2660760" y="4282920"/>
              <a:ext cx="828720" cy="596880"/>
            </a:xfrm>
            <a:custGeom>
              <a:avLst/>
              <a:gdLst>
                <a:gd name="textAreaLeft" fmla="*/ 110880 w 828720"/>
                <a:gd name="textAreaRight" fmla="*/ 717840 w 828720"/>
                <a:gd name="textAreaTop" fmla="*/ 101160 h 596880"/>
                <a:gd name="textAreaBottom" fmla="*/ 4208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be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7"/>
            <p:cNvSpPr/>
            <p:nvPr/>
          </p:nvSpPr>
          <p:spPr>
            <a:xfrm>
              <a:off x="357120" y="1428840"/>
              <a:ext cx="285768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仿宋_GB2312"/>
                  <a:ea typeface="仿宋_GB2312"/>
                </a:rPr>
                <a:t>当你以事业的心态面对工作的时候</a:t>
              </a:r>
              <a:r>
                <a:rPr b="1" lang="en-US" sz="2800" spc="-1" strike="noStrike">
                  <a:solidFill>
                    <a:srgbClr val="0070c0"/>
                  </a:solidFill>
                  <a:latin typeface="仿宋_GB2312"/>
                  <a:ea typeface="仿宋_GB2312"/>
                </a:rPr>
                <a:t>,</a:t>
              </a:r>
              <a:r>
                <a:rPr b="1" lang="zh-CN" sz="2800" spc="-1" strike="noStrike">
                  <a:solidFill>
                    <a:srgbClr val="0070c0"/>
                  </a:solidFill>
                  <a:latin typeface="仿宋_GB2312"/>
                  <a:ea typeface="仿宋_GB2312"/>
                </a:rPr>
                <a:t>你迟早将拥有自己的事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715040" y="3632040"/>
              <a:ext cx="1394280" cy="1633320"/>
              <a:chOff x="1715040" y="3632040"/>
              <a:chExt cx="1394280" cy="1633320"/>
            </a:xfrm>
          </p:grpSpPr>
          <p:sp>
            <p:nvSpPr>
              <p:cNvPr id="142" name="Oval 161"/>
              <p:cNvSpPr/>
              <p:nvPr/>
            </p:nvSpPr>
            <p:spPr>
              <a:xfrm rot="291600">
                <a:off x="2301480" y="3645360"/>
                <a:ext cx="331920" cy="324000"/>
              </a:xfrm>
              <a:prstGeom prst="ellipse">
                <a:avLst/>
              </a:prstGeom>
              <a:solidFill>
                <a:srgbClr val="fee3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2"/>
              <p:cNvSpPr/>
              <p:nvPr/>
            </p:nvSpPr>
            <p:spPr>
              <a:xfrm rot="291600">
                <a:off x="1777320" y="3690000"/>
                <a:ext cx="1269720" cy="1523880"/>
              </a:xfrm>
              <a:prstGeom prst="pie">
                <a:avLst/>
              </a:prstGeom>
              <a:solidFill>
                <a:srgbClr val="fee3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AutoShape 135"/>
            <p:cNvSpPr/>
            <p:nvPr/>
          </p:nvSpPr>
          <p:spPr>
            <a:xfrm>
              <a:off x="1282680" y="4297320"/>
              <a:ext cx="828720" cy="596880"/>
            </a:xfrm>
            <a:custGeom>
              <a:avLst/>
              <a:gdLst>
                <a:gd name="textAreaLeft" fmla="*/ 110880 w 828720"/>
                <a:gd name="textAreaRight" fmla="*/ 717840 w 828720"/>
                <a:gd name="textAreaTop" fmla="*/ 107640 h 596880"/>
                <a:gd name="textAreaBottom" fmla="*/ 42228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be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46480" y="1421280"/>
            <a:ext cx="2182320" cy="2226960"/>
            <a:chOff x="3246480" y="1421280"/>
            <a:chExt cx="2182320" cy="2226960"/>
          </a:xfrm>
        </p:grpSpPr>
        <p:pic>
          <p:nvPicPr>
            <p:cNvPr id="146" name="Picture 144" descr="shadow_1_m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>
              <a:off x="3731040" y="3402720"/>
              <a:ext cx="1217160" cy="24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"/>
            <p:cNvGrpSpPr/>
            <p:nvPr/>
          </p:nvGrpSpPr>
          <p:grpSpPr>
            <a:xfrm>
              <a:off x="3246480" y="1421280"/>
              <a:ext cx="2182320" cy="1918800"/>
              <a:chOff x="3246480" y="1421280"/>
              <a:chExt cx="2182320" cy="191880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46480" y="1612080"/>
                <a:ext cx="2182320" cy="1728000"/>
                <a:chOff x="3246480" y="1612080"/>
                <a:chExt cx="2182320" cy="1728000"/>
              </a:xfrm>
            </p:grpSpPr>
            <p:sp>
              <p:nvSpPr>
                <p:cNvPr id="149" name="AutoShape 120"/>
                <p:cNvSpPr/>
                <p:nvPr/>
              </p:nvSpPr>
              <p:spPr>
                <a:xfrm>
                  <a:off x="3246480" y="1612080"/>
                  <a:ext cx="2182320" cy="1728000"/>
                </a:xfrm>
                <a:prstGeom prst="pie">
                  <a:avLst/>
                </a:prstGeom>
                <a:gradFill rotWithShape="0">
                  <a:gsLst>
                    <a:gs pos="0">
                      <a:srgbClr val="33689d"/>
                    </a:gs>
                    <a:gs pos="50000">
                      <a:srgbClr val="18314a"/>
                    </a:gs>
                    <a:gs pos="100000">
                      <a:srgbClr val="3368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Oval 121"/>
                <p:cNvSpPr/>
                <p:nvPr/>
              </p:nvSpPr>
              <p:spPr>
                <a:xfrm>
                  <a:off x="3246480" y="2308320"/>
                  <a:ext cx="2182320" cy="36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89d"/>
                    </a:gs>
                    <a:gs pos="100000">
                      <a:srgbClr val="6990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122"/>
              <p:cNvSpPr/>
              <p:nvPr/>
            </p:nvSpPr>
            <p:spPr>
              <a:xfrm>
                <a:off x="3465720" y="2792880"/>
                <a:ext cx="18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现在的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3872880" y="1421280"/>
                <a:ext cx="941400" cy="1091880"/>
                <a:chOff x="3872880" y="1421280"/>
                <a:chExt cx="941400" cy="1091880"/>
              </a:xfrm>
            </p:grpSpPr>
            <p:sp>
              <p:nvSpPr>
                <p:cNvPr id="153" name="Oval 164"/>
                <p:cNvSpPr/>
                <p:nvPr/>
              </p:nvSpPr>
              <p:spPr>
                <a:xfrm rot="291600">
                  <a:off x="4268520" y="1430280"/>
                  <a:ext cx="224280" cy="2163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65"/>
                <p:cNvSpPr/>
                <p:nvPr/>
              </p:nvSpPr>
              <p:spPr>
                <a:xfrm rot="291600">
                  <a:off x="3914280" y="1459800"/>
                  <a:ext cx="858240" cy="1018440"/>
                </a:xfrm>
                <a:prstGeom prst="pi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475440" y="1802880"/>
                <a:ext cx="1758600" cy="451080"/>
                <a:chOff x="3475440" y="1802880"/>
                <a:chExt cx="1758600" cy="451080"/>
              </a:xfrm>
            </p:grpSpPr>
            <p:sp>
              <p:nvSpPr>
                <p:cNvPr id="156" name="AutoShape 169"/>
                <p:cNvSpPr/>
                <p:nvPr/>
              </p:nvSpPr>
              <p:spPr>
                <a:xfrm flipH="1">
                  <a:off x="4573080" y="1802880"/>
                  <a:ext cx="660600" cy="439920"/>
                </a:xfrm>
                <a:custGeom>
                  <a:avLst/>
                  <a:gdLst>
                    <a:gd name="textAreaLeft" fmla="*/ 88200 w 660600"/>
                    <a:gd name="textAreaRight" fmla="*/ 572400 w 660600"/>
                    <a:gd name="textAreaTop" fmla="*/ 74520 h 439920"/>
                    <a:gd name="textAreaBottom" fmla="*/ 310320 h 43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330" stAng="-5400000" swAng="-5400000"/>
                      <a:lnTo>
                        <a:pt x="0" y="11560"/>
                      </a:lnTo>
                      <a:arcTo wR="21600" hR="7330" stAng="10800000" swAng="-2944091"/>
                      <a:lnTo>
                        <a:pt x="15502" y="21302"/>
                      </a:lnTo>
                      <a:lnTo>
                        <a:pt x="21600" y="16775"/>
                      </a:lnTo>
                      <a:lnTo>
                        <a:pt x="15502" y="11652"/>
                      </a:lnTo>
                      <a:lnTo>
                        <a:pt x="15502" y="14362"/>
                      </a:lnTo>
                      <a:arcTo wR="21600" hR="7330" stAng="7855909" swAng="2593743"/>
                      <a:lnTo>
                        <a:pt x="919" y="9445"/>
                      </a:lnTo>
                      <a:arcTo wR="21600" hR="7330" stAng="-10449652" swAng="5049652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330" stAng="-5400000" swAng="-5400000"/>
                      <a:lnTo>
                        <a:pt x="0" y="7330"/>
                      </a:lnTo>
                      <a:arcTo wR="21600" hR="7330" stAng="10800000" swAng="-350348"/>
                      <a:lnTo>
                        <a:pt x="919" y="9445"/>
                      </a:lnTo>
                      <a:arcTo wR="21600" hR="7330" stAng="-10449652" swAng="5049652"/>
                      <a:close/>
                    </a:path>
                  </a:pathLst>
                </a:custGeom>
                <a:gradFill rotWithShape="0">
                  <a:gsLst>
                    <a:gs pos="0">
                      <a:srgbClr val="ff6600"/>
                    </a:gs>
                    <a:gs pos="100000">
                      <a:srgbClr val="ffbe9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170"/>
                <p:cNvSpPr/>
                <p:nvPr/>
              </p:nvSpPr>
              <p:spPr>
                <a:xfrm>
                  <a:off x="3475440" y="1814400"/>
                  <a:ext cx="660600" cy="439560"/>
                </a:xfrm>
                <a:custGeom>
                  <a:avLst/>
                  <a:gdLst>
                    <a:gd name="textAreaLeft" fmla="*/ 88200 w 660600"/>
                    <a:gd name="textAreaRight" fmla="*/ 572400 w 660600"/>
                    <a:gd name="textAreaTop" fmla="*/ 79200 h 439560"/>
                    <a:gd name="textAreaBottom" fmla="*/ 31104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802" stAng="-5400000" swAng="-5400000"/>
                      <a:lnTo>
                        <a:pt x="0" y="11375"/>
                      </a:lnTo>
                      <a:arcTo wR="21600" hR="7802" stAng="10800000" swAng="-3039262"/>
                      <a:lnTo>
                        <a:pt x="15467" y="21279"/>
                      </a:lnTo>
                      <a:lnTo>
                        <a:pt x="21600" y="17391"/>
                      </a:lnTo>
                      <a:lnTo>
                        <a:pt x="15467" y="12860"/>
                      </a:lnTo>
                      <a:lnTo>
                        <a:pt x="15467" y="15283"/>
                      </a:lnTo>
                      <a:arcTo wR="21600" hR="7802" stAng="7760738" swAng="2747871"/>
                      <a:lnTo>
                        <a:pt x="574" y="9589"/>
                      </a:lnTo>
                      <a:arcTo wR="21600" hR="7802" stAng="-10508609" swAng="5108609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802" stAng="-5400000" swAng="-5400000"/>
                      <a:lnTo>
                        <a:pt x="0" y="7802"/>
                      </a:lnTo>
                      <a:arcTo wR="21600" hR="7802" stAng="10800000" swAng="-291391"/>
                      <a:lnTo>
                        <a:pt x="574" y="9589"/>
                      </a:lnTo>
                      <a:arcTo wR="21600" hR="7802" stAng="-10508609" swAng="5108609"/>
                      <a:close/>
                    </a:path>
                  </a:pathLst>
                </a:custGeom>
                <a:gradFill rotWithShape="0">
                  <a:gsLst>
                    <a:gs pos="0">
                      <a:srgbClr val="ff6600"/>
                    </a:gs>
                    <a:gs pos="100000">
                      <a:srgbClr val="ffbe9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8" name=""/>
          <p:cNvGrpSpPr/>
          <p:nvPr/>
        </p:nvGrpSpPr>
        <p:grpSpPr>
          <a:xfrm>
            <a:off x="5334120" y="924840"/>
            <a:ext cx="3595680" cy="3163680"/>
            <a:chOff x="5334120" y="924840"/>
            <a:chExt cx="3595680" cy="3163680"/>
          </a:xfrm>
        </p:grpSpPr>
        <p:grpSp>
          <p:nvGrpSpPr>
            <p:cNvPr id="159" name=""/>
            <p:cNvGrpSpPr/>
            <p:nvPr/>
          </p:nvGrpSpPr>
          <p:grpSpPr>
            <a:xfrm>
              <a:off x="6730920" y="964440"/>
              <a:ext cx="1260720" cy="1101240"/>
              <a:chOff x="6730920" y="964440"/>
              <a:chExt cx="1260720" cy="1101240"/>
            </a:xfrm>
          </p:grpSpPr>
          <p:sp>
            <p:nvSpPr>
              <p:cNvPr id="160" name="AutoShape 5"/>
              <p:cNvSpPr/>
              <p:nvPr/>
            </p:nvSpPr>
            <p:spPr>
              <a:xfrm>
                <a:off x="6730920" y="964440"/>
                <a:ext cx="1260720" cy="1101240"/>
              </a:xfrm>
              <a:prstGeom prst="pie">
                <a:avLst/>
              </a:prstGeom>
              <a:gradFill rotWithShape="0">
                <a:gsLst>
                  <a:gs pos="0">
                    <a:srgbClr val="002346"/>
                  </a:gs>
                  <a:gs pos="50000">
                    <a:srgbClr val="001121"/>
                  </a:gs>
                  <a:gs pos="100000">
                    <a:srgbClr val="0023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4"/>
              <p:cNvSpPr/>
              <p:nvPr/>
            </p:nvSpPr>
            <p:spPr>
              <a:xfrm>
                <a:off x="6730920" y="1408320"/>
                <a:ext cx="12607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2346"/>
                  </a:gs>
                  <a:gs pos="100000">
                    <a:srgbClr val="435d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8"/>
            <p:cNvSpPr/>
            <p:nvPr/>
          </p:nvSpPr>
          <p:spPr>
            <a:xfrm>
              <a:off x="6955200" y="1663200"/>
              <a:ext cx="78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失败的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143" descr="shadow_1_m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7007400" y="2076480"/>
              <a:ext cx="70956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Oval 147"/>
            <p:cNvSpPr/>
            <p:nvPr/>
          </p:nvSpPr>
          <p:spPr>
            <a:xfrm flipH="1" rot="3125400">
              <a:off x="6814800" y="1779120"/>
              <a:ext cx="121680" cy="45360"/>
            </a:xfrm>
            <a:prstGeom prst="ellipse">
              <a:avLst/>
            </a:prstGeom>
            <a:gradFill rotWithShape="0">
              <a:gsLst>
                <a:gs pos="0">
                  <a:srgbClr val="6e99c0"/>
                </a:gs>
                <a:gs pos="50000">
                  <a:srgbClr val="161f26"/>
                </a:gs>
                <a:gs pos="100000">
                  <a:srgbClr val="6e99c0"/>
                </a:gs>
              </a:gsLst>
              <a:lin ang="139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1"/>
            <p:cNvSpPr/>
            <p:nvPr/>
          </p:nvSpPr>
          <p:spPr>
            <a:xfrm rot="14718000">
              <a:off x="6058800" y="1359720"/>
              <a:ext cx="123480" cy="1675080"/>
            </a:xfrm>
            <a:prstGeom prst="pie">
              <a:avLst/>
            </a:prstGeom>
            <a:gradFill rotWithShape="0">
              <a:gsLst>
                <a:gs pos="0">
                  <a:srgbClr val="6e99c0"/>
                </a:gs>
                <a:gs pos="50000">
                  <a:srgbClr val="506f8b"/>
                </a:gs>
                <a:gs pos="100000">
                  <a:srgbClr val="6e99c0"/>
                </a:gs>
              </a:gsLst>
              <a:lin ang="17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54"/>
            <p:cNvSpPr/>
            <p:nvPr/>
          </p:nvSpPr>
          <p:spPr>
            <a:xfrm>
              <a:off x="5857920" y="2714760"/>
              <a:ext cx="3071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仿宋_GB2312"/>
                  <a:ea typeface="仿宋_GB2312"/>
                </a:rPr>
                <a:t>当你以职业的心态面对工作的时候 </a:t>
              </a:r>
              <a:r>
                <a:rPr b="1" lang="en-US" sz="2800" spc="-1" strike="noStrike">
                  <a:solidFill>
                    <a:srgbClr val="ff0000"/>
                  </a:solidFill>
                  <a:latin typeface="仿宋_GB2312"/>
                  <a:ea typeface="仿宋_GB2312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仿宋_GB2312"/>
                  <a:ea typeface="仿宋_GB2312"/>
                </a:rPr>
                <a:t>你迟早将会面临失业 </a:t>
              </a:r>
              <a:r>
                <a:rPr b="1" lang="en-US" sz="2800" spc="-1" strike="noStrike">
                  <a:solidFill>
                    <a:srgbClr val="ff0000"/>
                  </a:solidFill>
                  <a:latin typeface="仿宋_GB2312"/>
                  <a:ea typeface="仿宋_GB2312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7152480" y="924840"/>
              <a:ext cx="447120" cy="593280"/>
              <a:chOff x="7152480" y="924840"/>
              <a:chExt cx="447120" cy="593280"/>
            </a:xfrm>
          </p:grpSpPr>
          <p:sp>
            <p:nvSpPr>
              <p:cNvPr id="168" name="Oval 167"/>
              <p:cNvSpPr/>
              <p:nvPr/>
            </p:nvSpPr>
            <p:spPr>
              <a:xfrm rot="363600">
                <a:off x="7349040" y="929880"/>
                <a:ext cx="102240" cy="11736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8"/>
              <p:cNvSpPr/>
              <p:nvPr/>
            </p:nvSpPr>
            <p:spPr>
              <a:xfrm rot="363600">
                <a:off x="7180200" y="945720"/>
                <a:ext cx="390960" cy="55332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864120" y="1122120"/>
              <a:ext cx="1039320" cy="257040"/>
              <a:chOff x="6864120" y="1122120"/>
              <a:chExt cx="1039320" cy="257040"/>
            </a:xfrm>
          </p:grpSpPr>
          <p:sp>
            <p:nvSpPr>
              <p:cNvPr id="171" name="AutoShape 173"/>
              <p:cNvSpPr/>
              <p:nvPr/>
            </p:nvSpPr>
            <p:spPr>
              <a:xfrm flipH="1">
                <a:off x="7513200" y="1122120"/>
                <a:ext cx="390240" cy="250920"/>
              </a:xfrm>
              <a:custGeom>
                <a:avLst/>
                <a:gdLst>
                  <a:gd name="textAreaLeft" fmla="*/ 52200 w 390240"/>
                  <a:gd name="textAreaRight" fmla="*/ 338040 w 390240"/>
                  <a:gd name="textAreaTop" fmla="*/ 42480 h 250920"/>
                  <a:gd name="textAreaBottom" fmla="*/ 176760 h 25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330" stAng="-5400000" swAng="-5400000"/>
                    <a:lnTo>
                      <a:pt x="0" y="11560"/>
                    </a:lnTo>
                    <a:arcTo wR="21600" hR="7330" stAng="10800000" swAng="-2944091"/>
                    <a:lnTo>
                      <a:pt x="15502" y="21302"/>
                    </a:lnTo>
                    <a:lnTo>
                      <a:pt x="21600" y="16775"/>
                    </a:lnTo>
                    <a:lnTo>
                      <a:pt x="15502" y="11652"/>
                    </a:lnTo>
                    <a:lnTo>
                      <a:pt x="15502" y="14362"/>
                    </a:lnTo>
                    <a:arcTo wR="21600" hR="7330" stAng="7855909" swAng="2593743"/>
                    <a:lnTo>
                      <a:pt x="919" y="9445"/>
                    </a:lnTo>
                    <a:arcTo wR="21600" hR="7330" stAng="-10449652" swAng="5049652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330" stAng="-5400000" swAng="-5400000"/>
                    <a:lnTo>
                      <a:pt x="0" y="7330"/>
                    </a:lnTo>
                    <a:arcTo wR="21600" hR="7330" stAng="10800000" swAng="-350348"/>
                    <a:lnTo>
                      <a:pt x="919" y="9445"/>
                    </a:lnTo>
                    <a:arcTo wR="21600" hR="7330" stAng="-10449652" swAng="5049652"/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be9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74"/>
              <p:cNvSpPr/>
              <p:nvPr/>
            </p:nvSpPr>
            <p:spPr>
              <a:xfrm>
                <a:off x="6864120" y="1128600"/>
                <a:ext cx="390240" cy="250560"/>
              </a:xfrm>
              <a:custGeom>
                <a:avLst/>
                <a:gdLst>
                  <a:gd name="textAreaLeft" fmla="*/ 52200 w 390240"/>
                  <a:gd name="textAreaRight" fmla="*/ 338040 w 390240"/>
                  <a:gd name="textAreaTop" fmla="*/ 45000 h 250560"/>
                  <a:gd name="textAreaBottom" fmla="*/ 177120 h 25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802" stAng="-5400000" swAng="-5400000"/>
                    <a:lnTo>
                      <a:pt x="0" y="11375"/>
                    </a:lnTo>
                    <a:arcTo wR="21600" hR="7802" stAng="10800000" swAng="-3039262"/>
                    <a:lnTo>
                      <a:pt x="15467" y="21279"/>
                    </a:lnTo>
                    <a:lnTo>
                      <a:pt x="21600" y="17391"/>
                    </a:lnTo>
                    <a:lnTo>
                      <a:pt x="15467" y="12860"/>
                    </a:lnTo>
                    <a:lnTo>
                      <a:pt x="15467" y="15283"/>
                    </a:lnTo>
                    <a:arcTo wR="21600" hR="7802" stAng="7760738" swAng="2747871"/>
                    <a:lnTo>
                      <a:pt x="574" y="9589"/>
                    </a:lnTo>
                    <a:arcTo wR="21600" hR="7802" stAng="-10508609" swAng="5108609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802" stAng="-5400000" swAng="-5400000"/>
                    <a:lnTo>
                      <a:pt x="0" y="7802"/>
                    </a:lnTo>
                    <a:arcTo wR="21600" hR="7802" stAng="10800000" swAng="-291391"/>
                    <a:lnTo>
                      <a:pt x="574" y="9589"/>
                    </a:lnTo>
                    <a:arcTo wR="21600" hR="7802" stAng="-10508609" swAng="5108609"/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be9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影响态度的主要因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162080" y="1676520"/>
            <a:ext cx="6819840" cy="4419360"/>
            <a:chOff x="1162080" y="1676520"/>
            <a:chExt cx="6819840" cy="4419360"/>
          </a:xfrm>
        </p:grpSpPr>
        <p:sp>
          <p:nvSpPr>
            <p:cNvPr id="175" name="Oval 4"/>
            <p:cNvSpPr/>
            <p:nvPr/>
          </p:nvSpPr>
          <p:spPr>
            <a:xfrm>
              <a:off x="3638520" y="3428640"/>
              <a:ext cx="17528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行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5"/>
            <p:cNvSpPr/>
            <p:nvPr/>
          </p:nvSpPr>
          <p:spPr>
            <a:xfrm>
              <a:off x="2990880" y="2895480"/>
              <a:ext cx="3124080" cy="190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"/>
            <p:cNvSpPr/>
            <p:nvPr/>
          </p:nvSpPr>
          <p:spPr>
            <a:xfrm>
              <a:off x="2228760" y="2361960"/>
              <a:ext cx="4648320" cy="2971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7"/>
            <p:cNvSpPr/>
            <p:nvPr/>
          </p:nvSpPr>
          <p:spPr>
            <a:xfrm>
              <a:off x="1162080" y="1676520"/>
              <a:ext cx="6781680" cy="441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>
              <a:off x="4552920" y="480024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>
              <a:off x="1733760" y="2666880"/>
              <a:ext cx="15238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 flipV="1">
              <a:off x="5848560" y="2590560"/>
              <a:ext cx="14475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1"/>
            <p:cNvSpPr/>
            <p:nvPr/>
          </p:nvSpPr>
          <p:spPr>
            <a:xfrm rot="2799000">
              <a:off x="2451960" y="4233960"/>
              <a:ext cx="10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情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 rot="19663800">
              <a:off x="5466600" y="434196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价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4019760" y="28954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态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4019760" y="23619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认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1200240" y="35812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压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1657440" y="46479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情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7"/>
            <p:cNvSpPr/>
            <p:nvPr/>
          </p:nvSpPr>
          <p:spPr>
            <a:xfrm>
              <a:off x="3029040" y="54100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人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2419560" y="21333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经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3943440" y="17524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背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5772240" y="21333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信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6915240" y="365724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2"/>
            <p:cNvSpPr/>
            <p:nvPr/>
          </p:nvSpPr>
          <p:spPr>
            <a:xfrm>
              <a:off x="6229440" y="48765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期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3"/>
            <p:cNvSpPr/>
            <p:nvPr/>
          </p:nvSpPr>
          <p:spPr>
            <a:xfrm>
              <a:off x="4857840" y="54100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信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案例研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6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姐是部门之组长，服务于公司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半，学历是所有组长之中高学历，做任何事都有独特见解，对问题追根究底的精神及工作简化，赢得长官的喜欢，甚至该组长犯错，主管从不责备，而是轻言带过，其它人员犯错老板则严加责备，以致于引起其它组长的眼红及反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一天，工作现场中发生重大的质量问题，需求助其它人支持，但没有人愿意帮助她，大家抱着看热闹的心态，导致该组长内心痛苦：「我做错了什么？为什么大家这么排斥我？」。隔日该员工反应她的上司，经开导与沟通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姐才深深觉悟、乐群之重要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请小组研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问题分析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因应对策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712800" y="785520"/>
            <a:ext cx="822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员工有时候工作态度不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643040"/>
            <a:ext cx="85154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会偷懒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会喜欢舒适区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喜欢得过且过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喜欢不劳而获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喜欢改变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855720" y="428760"/>
            <a:ext cx="75945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情四射的心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285920"/>
            <a:ext cx="817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有包容的心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有团队合作的心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有互相学习的心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有绝对付出的心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有感恩的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何在日常行动中培养积极心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28440" y="1071720"/>
            <a:ext cx="74610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转换心智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寻找工作的使命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透过以身作则影响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从口语表达上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使用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肯定积极语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经常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微笑，在应对时展现信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养成快速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反应、立即行动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善用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创意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培养面对困境的韧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让部属体验良好的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“</a:t>
            </a:r>
            <a:r>
              <a:rPr b="0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一个人事业的成功只有</a:t>
            </a:r>
            <a:r>
              <a:rPr b="0" lang="en-US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15%</a:t>
            </a:r>
            <a:r>
              <a:rPr b="0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取决于他的专业技能，另外的</a:t>
            </a:r>
            <a:r>
              <a:rPr b="0" lang="en-US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85%</a:t>
            </a:r>
            <a:r>
              <a:rPr b="0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要依靠人际关系和处世技巧。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297707"/>
          <p:cNvPicPr/>
          <p:nvPr/>
        </p:nvPicPr>
        <p:blipFill>
          <a:blip r:embed="rId1"/>
          <a:stretch/>
        </p:blipFill>
        <p:spPr>
          <a:xfrm>
            <a:off x="5429160" y="3000240"/>
            <a:ext cx="18874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400" y="2071800"/>
            <a:ext cx="69534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、职业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9680" y="1643040"/>
            <a:ext cx="766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四、目标计划</a:t>
            </a: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5560" y="1746000"/>
            <a:ext cx="8343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3" descr="1[2].jpg"/>
          <p:cNvPicPr/>
          <p:nvPr/>
        </p:nvPicPr>
        <p:blipFill>
          <a:blip r:embed="rId1"/>
          <a:stretch/>
        </p:blipFill>
        <p:spPr>
          <a:xfrm>
            <a:off x="2714760" y="2071800"/>
            <a:ext cx="317484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作计划的特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55640" y="907920"/>
            <a:ext cx="8064360" cy="5543640"/>
            <a:chOff x="755640" y="907920"/>
            <a:chExt cx="8064360" cy="5543640"/>
          </a:xfrm>
        </p:grpSpPr>
        <p:sp>
          <p:nvSpPr>
            <p:cNvPr id="211" name="AutoShape 5"/>
            <p:cNvSpPr/>
            <p:nvPr/>
          </p:nvSpPr>
          <p:spPr>
            <a:xfrm>
              <a:off x="755640" y="907920"/>
              <a:ext cx="8064360" cy="55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"/>
            <p:cNvSpPr/>
            <p:nvPr/>
          </p:nvSpPr>
          <p:spPr>
            <a:xfrm>
              <a:off x="3560760" y="3663360"/>
              <a:ext cx="1660320" cy="1306800"/>
            </a:xfrm>
            <a:prstGeom prst="ellipse">
              <a:avLst/>
            </a:prstGeom>
            <a:solidFill>
              <a:srgbClr val="85ffe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计划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三个特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6"/>
            <p:cNvSpPr/>
            <p:nvPr/>
          </p:nvSpPr>
          <p:spPr>
            <a:xfrm>
              <a:off x="3620520" y="1674000"/>
              <a:ext cx="1310040" cy="1050120"/>
            </a:xfrm>
            <a:prstGeom prst="wedgeEllipseCallout">
              <a:avLst>
                <a:gd name="adj1" fmla="val 708"/>
                <a:gd name="adj2" fmla="val 104652"/>
              </a:avLst>
            </a:prstGeom>
            <a:solidFill>
              <a:srgbClr val="85ffe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前瞻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7"/>
            <p:cNvSpPr/>
            <p:nvPr/>
          </p:nvSpPr>
          <p:spPr>
            <a:xfrm>
              <a:off x="5929560" y="3071880"/>
              <a:ext cx="1311120" cy="956520"/>
            </a:xfrm>
            <a:prstGeom prst="wedgeEllipseCallout">
              <a:avLst>
                <a:gd name="adj1" fmla="val -74310"/>
                <a:gd name="adj2" fmla="val 83671"/>
              </a:avLst>
            </a:prstGeom>
            <a:solidFill>
              <a:srgbClr val="85ffe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决策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8"/>
            <p:cNvSpPr/>
            <p:nvPr/>
          </p:nvSpPr>
          <p:spPr>
            <a:xfrm>
              <a:off x="1613160" y="4932360"/>
              <a:ext cx="2008440" cy="1100160"/>
            </a:xfrm>
            <a:prstGeom prst="wedgeEllipseCallout">
              <a:avLst>
                <a:gd name="adj1" fmla="val 41740"/>
                <a:gd name="adj2" fmla="val -63652"/>
              </a:avLst>
            </a:prstGeom>
            <a:solidFill>
              <a:srgbClr val="85ffe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目标导向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7"/>
            <p:cNvSpPr/>
            <p:nvPr/>
          </p:nvSpPr>
          <p:spPr>
            <a:xfrm>
              <a:off x="5220000" y="1675800"/>
              <a:ext cx="24652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思考及判断未来可能的状况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8"/>
            <p:cNvSpPr/>
            <p:nvPr/>
          </p:nvSpPr>
          <p:spPr>
            <a:xfrm>
              <a:off x="4739040" y="5282280"/>
              <a:ext cx="2945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决定未来想要达成的状况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9"/>
            <p:cNvSpPr/>
            <p:nvPr/>
          </p:nvSpPr>
          <p:spPr>
            <a:xfrm>
              <a:off x="894600" y="3330360"/>
              <a:ext cx="232272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规划各个标的，以达成期望的状况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肘形接點 11"/>
            <p:cNvCxnSpPr>
              <a:stCxn id="213" idx="7"/>
              <a:endCxn id="216" idx="0"/>
            </p:cNvCxnSpPr>
            <p:nvPr/>
          </p:nvCxnSpPr>
          <p:spPr>
            <a:xfrm flipH="1" flipV="1" rot="5400000">
              <a:off x="5516280" y="893520"/>
              <a:ext cx="155160" cy="1712520"/>
            </a:xfrm>
            <a:prstGeom prst="bentConnector3">
              <a:avLst>
                <a:gd name="adj1" fmla="val 38558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肘形接點 14"/>
            <p:cNvCxnSpPr>
              <a:stCxn id="214" idx="4"/>
              <a:endCxn id="217" idx="0"/>
            </p:cNvCxnSpPr>
            <p:nvPr/>
          </p:nvCxnSpPr>
          <p:spPr>
            <a:xfrm rot="5400000">
              <a:off x="5769000" y="4467600"/>
              <a:ext cx="1254240" cy="373680"/>
            </a:xfrm>
            <a:prstGeom prst="bentConnector3">
              <a:avLst>
                <a:gd name="adj1" fmla="val 49985"/>
              </a:avLst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肘形接點 20"/>
            <p:cNvCxnSpPr>
              <a:stCxn id="215" idx="2"/>
            </p:cNvCxnSpPr>
            <p:nvPr/>
          </p:nvCxnSpPr>
          <p:spPr>
            <a:xfrm rot="10800000">
              <a:off x="1375920" y="4233600"/>
              <a:ext cx="235800" cy="12502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1498680" y="1143000"/>
            <a:ext cx="87854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科学工作方法的六大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28800" y="164304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明确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收集相关资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根据所掌握的资料做出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制定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执行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检讨并修正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9144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耶鲁大学统计资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只有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 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毕业生知道以后要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7 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不知道自己以后要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27%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，没有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10%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，有清晰但比较短期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60%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，目标模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"/>
          <p:cNvSpPr/>
          <p:nvPr/>
        </p:nvSpPr>
        <p:spPr>
          <a:xfrm>
            <a:off x="1874880" y="9288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要设定目标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耶鲁大学追踪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知道做什么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 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毕业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拥有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7 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财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知道要做什么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7 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只拥有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 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财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400" y="1143000"/>
            <a:ext cx="70009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们为什么不设定目标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28840" y="171468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害怕失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害怕被别人耻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知道目标的重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知道设定目标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知道目标设定的是否正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578628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设定目标的十大好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71720" y="150012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产生积极的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看清使命，产生动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觉得生存的意义和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重点从过程转到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清轻重缓急，把握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集中精力，把握现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提高激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自我完善，永不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产生信心、勇气、胆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.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使你成为一个成功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578628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目标设定的范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事业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财富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家庭生活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习成长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际关系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健康休闲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目标金字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 rot="10800000">
            <a:off x="2514600" y="1905120"/>
            <a:ext cx="4495680" cy="430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4268160" y="1863720"/>
            <a:ext cx="1034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长程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季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周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2801880" y="2478240"/>
            <a:ext cx="392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089160" y="3051000"/>
            <a:ext cx="334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3375000" y="3529080"/>
            <a:ext cx="277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3624120" y="4032360"/>
            <a:ext cx="224316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3903840" y="4567320"/>
            <a:ext cx="17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1071720"/>
            <a:ext cx="5786280" cy="14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目标的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MART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28840" y="171468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ecific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明确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asurable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可衡量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ceptable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可接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alistic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实际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imed 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时限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766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企业的终极期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5520" y="571680"/>
            <a:ext cx="8001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亲爱的员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之所以聘用你，是基于你能满足我们一些急迫的需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没有你，公司也能运转，我们就大可不必费这个劲了。但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我们深信需要一位拥有你那样的技能和经验的人，并且确认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正是帮助我们实现目标的最佳人选。因此，我们给了你这个职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而你也欣然接受了。谢谢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在任职期间内，会被要求作许多事情：一般性的职责、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别交办的任务、团队的以及你个人的项目；你将会拥有很多超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他人的机会，并表现出你的优异，以此向我们证明当初聘用你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决定是多么的英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然而，有一项重要的职责，或许你的上司永远都不会明白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说出来，但你在任职期间却需要始终牢记在心里，那就是企业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的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终极期望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永远做非常需要做的事，而不必等待别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要求你才去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是聘你来工作的，更重要的是，我们为了公司的最大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益聘用了你，就是希望你随时随地自主思考、运用你的判断力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付诸行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此后再也没有人向你提及这个原则，千万别误以为这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因为它不再重要，或者是我们不再这样认为。我们可能正在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569880" y="642960"/>
            <a:ext cx="69516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确定目标的行动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8592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hy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hat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目标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here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哪里工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hen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何时工作？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ho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由谁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ow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何工作和衡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360" y="1785960"/>
            <a:ext cx="69534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五、沟通协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08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沟通的意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1187280" y="1989000"/>
            <a:ext cx="6812280" cy="1373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了某一个特定的目标，将信息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information)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意念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idea)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understanding)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或情感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feeling)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个人或群体之间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842976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周哈理窗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The Johari Window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PMingLiU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785960" y="2143080"/>
          <a:ext cx="6192720" cy="4032360"/>
        </p:xfrm>
        <a:graphic>
          <a:graphicData uri="http://schemas.openxmlformats.org/drawingml/2006/table">
            <a:tbl>
              <a:tblPr/>
              <a:tblGrid>
                <a:gridCol w="3176640"/>
                <a:gridCol w="3016080"/>
              </a:tblGrid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公开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共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—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交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5000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盲目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盲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—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争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5000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隐私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秘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—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了解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生气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潜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藏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处女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51" name="Text Box 14"/>
          <p:cNvSpPr/>
          <p:nvPr/>
        </p:nvSpPr>
        <p:spPr>
          <a:xfrm>
            <a:off x="2714760" y="164304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5796000" y="206064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5857920" y="16430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不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928800" y="25002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900000" y="450864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928800" y="45007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不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3571920" y="39290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1"/>
          <p:cNvSpPr/>
          <p:nvPr/>
        </p:nvSpPr>
        <p:spPr>
          <a:xfrm>
            <a:off x="492912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857240" y="1071720"/>
            <a:ext cx="5400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思想、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观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念、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讯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息的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传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从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方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传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到另一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使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接受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并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采取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行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anagecko_feature"/>
          <p:cNvPicPr/>
          <p:nvPr/>
        </p:nvPicPr>
        <p:blipFill>
          <a:blip r:embed="rId5"/>
          <a:stretch/>
        </p:blipFill>
        <p:spPr>
          <a:xfrm>
            <a:off x="3500280" y="3786120"/>
            <a:ext cx="2286000" cy="1386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5429160" y="3789360"/>
            <a:ext cx="3463920" cy="222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√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传达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讯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息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√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说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明的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观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念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√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的期望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√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如何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搜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集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资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500040" y="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与人沟通的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42960" y="3786120"/>
            <a:ext cx="3240000" cy="222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背景、资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可能的想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性格、影响力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期望、价值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14680" y="785520"/>
            <a:ext cx="5688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沟通要素与影响程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214720" y="2000160"/>
            <a:ext cx="4285800" cy="4043160"/>
            <a:chOff x="2214720" y="2000160"/>
            <a:chExt cx="4285800" cy="4043160"/>
          </a:xfrm>
        </p:grpSpPr>
        <p:sp>
          <p:nvSpPr>
            <p:cNvPr id="266" name="Oval 4"/>
            <p:cNvSpPr/>
            <p:nvPr/>
          </p:nvSpPr>
          <p:spPr>
            <a:xfrm>
              <a:off x="2214720" y="2000160"/>
              <a:ext cx="4285800" cy="404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5"/>
            <p:cNvSpPr/>
            <p:nvPr/>
          </p:nvSpPr>
          <p:spPr>
            <a:xfrm>
              <a:off x="4357440" y="2000160"/>
              <a:ext cx="0" cy="19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6"/>
            <p:cNvSpPr/>
            <p:nvPr/>
          </p:nvSpPr>
          <p:spPr>
            <a:xfrm>
              <a:off x="4357440" y="3983400"/>
              <a:ext cx="555480" cy="19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 flipV="1">
              <a:off x="4357440" y="2152440"/>
              <a:ext cx="793800" cy="18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4437000" y="2152440"/>
              <a:ext cx="396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语言</a:t>
              </a:r>
              <a:r>
                <a:rPr b="0" lang="en-US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4913280" y="3449880"/>
              <a:ext cx="103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声调</a:t>
              </a:r>
              <a:r>
                <a:rPr b="0" lang="en-US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3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0"/>
            <p:cNvSpPr/>
            <p:nvPr/>
          </p:nvSpPr>
          <p:spPr>
            <a:xfrm>
              <a:off x="2651040" y="3296880"/>
              <a:ext cx="1468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脸部表情和姿势</a:t>
              </a:r>
              <a:r>
                <a:rPr b="0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5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5688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效沟通的六个特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双向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明确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谈行为不谈个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积极聆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善于提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善用非语言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J0240397"/>
          <p:cNvPicPr/>
          <p:nvPr/>
        </p:nvPicPr>
        <p:blipFill>
          <a:blip r:embed="rId1"/>
          <a:stretch/>
        </p:blipFill>
        <p:spPr>
          <a:xfrm>
            <a:off x="5643720" y="3357720"/>
            <a:ext cx="30556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何与工作夥伴，同事相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真心相互关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要吹毛求疵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切忌惹事生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切忌轻视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常以微笑待人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多给别人赞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尽力协助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避免与人辩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批评，不责难，不抱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拙胜与人相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宽容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勇于认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985680" y="1428840"/>
            <a:ext cx="81583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做好自己部门的沟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沟通目标清楚明确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做好沟通后的确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掌握沟通的原则，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先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倾听再讲清楚说明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部门主管需有乐意分享的心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沟通会议上，愿意坦诚公开合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各部门当成自己部门的协助单位看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随时主动了解其他部门的状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习以组织整体观点去思考问题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系统思考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-712800" y="928800"/>
            <a:ext cx="82281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何做好跨部门沟通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成为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Q</a:t>
            </a:r>
            <a:r>
              <a:rPr b="1" lang="zh-TW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高手的技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EQ</a:t>
            </a:r>
            <a:r>
              <a:rPr b="0" lang="zh-TW" sz="32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管理技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且慢发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纾解压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对逆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对心情低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包容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沟通技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良好沟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积极倾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幽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拒绝的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赞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SAFETY"/>
          <p:cNvPicPr/>
          <p:nvPr/>
        </p:nvPicPr>
        <p:blipFill>
          <a:blip r:embed="rId1"/>
          <a:stretch/>
        </p:blipFill>
        <p:spPr>
          <a:xfrm>
            <a:off x="3286080" y="4753080"/>
            <a:ext cx="2143080" cy="21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857160" y="428760"/>
            <a:ext cx="8286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繁忙的日常业务，在应对永不停止的操作流程改变，在各种分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开身的事务中忙忙碌碌。我们日复一日地工作性质，或许，你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觉得这个原则已不再适用了。但是，这只是一种表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随时都不要忘记企业对你的“终极期望”。只要你和我们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雇佣关系存续一日，它就始终是对你的要求，是你积极主动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一盏明灯，不断地激励着你的思考和行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只要你是我们的员工，你就自动的拥有了我们的期许：为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们追求最佳利益而积极主动地行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任何时候，如果你觉得我们有什么做错了</a:t>
            </a: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没有做对我们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家都有益的事情</a:t>
            </a: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请你明白说出来。你已经拥有我们的许可：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权在必要的时候毫不隐瞒地说出你的看法，大胆地提出拟的建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或对某项行动或决定表达你的质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并不表示我们一定会认同你的看法，或是必然改变我们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的做法，但是，我们将始终乐于倾听，只要在你看来有什么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助于更好地达成我们所追求的目标，并在这一过程中创造出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种自助助人的成功经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你想对现有工作程序做些改变，你必须先努力了解既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工作流程是如何运作的（以及原因）。先尽力尝试着在既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体系下工作，但是，假如你仍然觉得这些体系需要改变，那就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毫不犹豫的说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于这封信的主旨，欢迎你随时和我以及公司中其他成员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讨论，或许我们都将因此更好的达成企业的终极期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的真诚的经理 敬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695304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时间效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998640" y="928440"/>
            <a:ext cx="56865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银行向你拨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银行每天早晨向你拨款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.64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万元；你在一天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可以随心所欲，想用多少就用多少，用途也没有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何的规定；条件只有一个，用剩的钱不能留到第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天再用，结余的也不能归自己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前一天的钱你用光也好，分文不发也好，第二天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又有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.64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万元，请问你如何用这笔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56840" y="1785600"/>
            <a:ext cx="628668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的时间价值多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3" descr="409122[1].jpg"/>
          <p:cNvPicPr/>
          <p:nvPr/>
        </p:nvPicPr>
        <p:blipFill>
          <a:blip r:embed="rId1"/>
          <a:stretch/>
        </p:blipFill>
        <p:spPr>
          <a:xfrm>
            <a:off x="3214800" y="2786040"/>
            <a:ext cx="25714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5688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时间管理是什么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时间管理就是自我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自我管理即是改变习惯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令自己更富绩效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更富效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事情很快地做完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叫做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效率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事情很快又很对地做完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叫做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效能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时间管理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是事前的规划或长期的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43040" y="2499840"/>
            <a:ext cx="614376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思考：时间是怎么浪费的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52280" y="1447920"/>
          <a:ext cx="7772400" cy="41907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4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紧迫的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不紧迫的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重要的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1 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99"/>
                          </a:solidFill>
                          <a:latin typeface="Arial"/>
                          <a:ea typeface="PMingLiU"/>
                        </a:rPr>
                        <a:t>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2 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99"/>
                          </a:solidFill>
                          <a:latin typeface="Arial"/>
                          <a:ea typeface="PMingLiU"/>
                        </a:rPr>
                        <a:t>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不重要的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3 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99"/>
                          </a:solidFill>
                          <a:latin typeface="Arial"/>
                          <a:ea typeface="PMingLiU"/>
                        </a:rPr>
                        <a:t>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4 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99"/>
                          </a:solidFill>
                          <a:latin typeface="Arial"/>
                          <a:ea typeface="PMingLiU"/>
                        </a:rPr>
                        <a:t>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572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清优先顺序，要事第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7"/>
          <p:cNvSpPr/>
          <p:nvPr/>
        </p:nvSpPr>
        <p:spPr>
          <a:xfrm>
            <a:off x="3564000" y="306864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MingLiU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8"/>
          <p:cNvSpPr/>
          <p:nvPr/>
        </p:nvSpPr>
        <p:spPr>
          <a:xfrm>
            <a:off x="6156360" y="306864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MingLiU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9"/>
          <p:cNvSpPr/>
          <p:nvPr/>
        </p:nvSpPr>
        <p:spPr>
          <a:xfrm>
            <a:off x="6156360" y="443700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MingLiU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0"/>
          <p:cNvSpPr/>
          <p:nvPr/>
        </p:nvSpPr>
        <p:spPr>
          <a:xfrm>
            <a:off x="3564000" y="443700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MingLiU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1"/>
          <p:cNvSpPr/>
          <p:nvPr/>
        </p:nvSpPr>
        <p:spPr>
          <a:xfrm>
            <a:off x="482040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PMingLiU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4803840" y="426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PMingLiU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3"/>
          <p:cNvSpPr/>
          <p:nvPr/>
        </p:nvSpPr>
        <p:spPr>
          <a:xfrm>
            <a:off x="543636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PMingLiU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4"/>
          <p:cNvSpPr/>
          <p:nvPr/>
        </p:nvSpPr>
        <p:spPr>
          <a:xfrm>
            <a:off x="5420520" y="426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PMingLiU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1"/>
          <p:cNvSpPr/>
          <p:nvPr/>
        </p:nvSpPr>
        <p:spPr>
          <a:xfrm>
            <a:off x="3214800" y="1143000"/>
            <a:ext cx="44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请排出正确的行事优先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285560" y="1500120"/>
            <a:ext cx="70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类最重要，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类重要，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类次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类：最大价值、不做就没机会、不能替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你是个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类的事自己做，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类的事压缩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类的事延期做或不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你是一个领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类的事自己做，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类的事压缩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类的事要授权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141480" y="1071720"/>
            <a:ext cx="56862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运用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法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作时段分配法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5800" y="1484280"/>
          <a:ext cx="7772400" cy="39132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早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中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3:00~15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下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晚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活力充沛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冲劲与勇气兼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思考迟顿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适合散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放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冷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沟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Relax,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人文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 Thin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998640" y="999720"/>
            <a:ext cx="56865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0/20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法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花最少的力气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获得最多的效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所完成的工作里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80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成果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来自于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时间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&gt;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也就是说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0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努力是与成果无关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3995640" y="2997360"/>
            <a:ext cx="1297080" cy="16556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PMingLiU"/>
              </a:rPr>
              <a:t>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PMingLiU"/>
              </a:rPr>
              <a:t>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PMingLiU"/>
              </a:rPr>
              <a:t>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 rot="18636600">
            <a:off x="2917080" y="2059560"/>
            <a:ext cx="576000" cy="863640"/>
          </a:xfrm>
          <a:prstGeom prst="downArrow">
            <a:avLst>
              <a:gd name="adj1" fmla="val 50000"/>
              <a:gd name="adj2" fmla="val 374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时间管理的利器</a:t>
            </a: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 to-d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3851280" y="2852640"/>
            <a:ext cx="1297080" cy="1656000"/>
          </a:xfrm>
          <a:prstGeom prst="foldedCorner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2963400">
            <a:off x="2915280" y="4363920"/>
            <a:ext cx="576000" cy="8640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H="1" rot="2963400">
            <a:off x="5509080" y="2061000"/>
            <a:ext cx="576360" cy="863280"/>
          </a:xfrm>
          <a:prstGeom prst="downArrow">
            <a:avLst>
              <a:gd name="adj1" fmla="val 50000"/>
              <a:gd name="adj2" fmla="val 37445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8636600">
            <a:off x="5506560" y="4366080"/>
            <a:ext cx="576360" cy="863280"/>
          </a:xfrm>
          <a:prstGeom prst="downArrow">
            <a:avLst>
              <a:gd name="adj1" fmla="val 50000"/>
              <a:gd name="adj2" fmla="val 3744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305000" y="1357200"/>
            <a:ext cx="22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紧急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老板今天交待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临时状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6417720" y="1357200"/>
            <a:ext cx="196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重要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作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生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家庭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健康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财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6626160" y="4794120"/>
            <a:ext cx="19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chedul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行事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纪念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744120" y="45007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Routin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常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期约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320" y="1571760"/>
            <a:ext cx="835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思考：二十一世纪靠什么“</a:t>
            </a:r>
            <a:r>
              <a:rPr b="1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赢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1744920" y="2357280"/>
            <a:ext cx="608076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让自己喜欢赢的感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机会存在于每一份工作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制造赢的契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思考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准备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行动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坚持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案例！在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-ELEVEN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老板能为你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与成功有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28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人的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主动积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终为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事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4572000" y="14130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公众的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双赢思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5)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知彼解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6)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统合综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7)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断精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j0233018"/>
          <p:cNvPicPr/>
          <p:nvPr/>
        </p:nvPicPr>
        <p:blipFill>
          <a:blip r:embed="rId1"/>
          <a:stretch/>
        </p:blipFill>
        <p:spPr>
          <a:xfrm>
            <a:off x="3143160" y="4071960"/>
            <a:ext cx="23767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998720" y="2854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企业，止于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120" y="1356840"/>
            <a:ext cx="907272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企业最缺的不是科技、资本、市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吸引对的人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需认同企业（大我）的价值观与愿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让主管不必紧迫盯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是应付差事，而是在承担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展现成熟的工作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999080" y="1000080"/>
            <a:ext cx="76662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的价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746000"/>
            <a:ext cx="8344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5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知识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Knowledge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态度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ttitude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技巧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kill</a:t>
            </a:r>
            <a:r>
              <a:rPr b="0" lang="zh-TW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习惯（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abit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案例：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的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1000080" y="71424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企业喜欢什么样的人才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1071720" y="1643040"/>
            <a:ext cx="4572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独立思考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创新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自动自发，积极进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受过专业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知识丰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沟通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语文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全球化（国际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4:22:04Z</dcterms:created>
  <dc:creator>微软用户</dc:creator>
  <dc:description/>
  <dc:language>en-US</dc:language>
  <cp:lastModifiedBy>yjb</cp:lastModifiedBy>
  <dcterms:modified xsi:type="dcterms:W3CDTF">2014-03-23T15:09:57Z</dcterms:modified>
  <cp:revision>323</cp:revision>
  <dc:subject/>
  <dc:title>班组长综合管理能力提升训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